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34200" y="6566040"/>
            <a:ext cx="2307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10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05648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T - Introduction - page </a:t>
            </a:r>
            <a:fld id="{E074E827-C6C7-487E-9D62-2B6714A917FE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173160" y="233280"/>
            <a:ext cx="347652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058760" y="5087880"/>
            <a:ext cx="7313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0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406152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T - Introduction - page </a:t>
            </a:r>
            <a:fld id="{865EAB77-4DC9-459F-97E1-AB7F0E48FADB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9694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2"/>
          <a:stretch/>
        </p:blipFill>
        <p:spPr>
          <a:xfrm>
            <a:off x="173160" y="216000"/>
            <a:ext cx="3476520" cy="48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025640" y="1752480"/>
            <a:ext cx="6553080" cy="27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536b"/>
                </a:solidFill>
                <a:latin typeface="Arial Narrow"/>
              </a:rPr>
              <a:t>PSP Instructor Training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536b"/>
                </a:solidFill>
                <a:latin typeface="Arial Narrow"/>
              </a:rPr>
              <a:t>Module: Teaching PSP0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Student Presentations - Evaluation Criteria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17360" y="187632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monstrates good rapport with participants (e.g., faces class, maintains eye contact, call participants by names.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monstrates understanding of PSP material; has an acceptable working knowledge of PSP content and applicat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acilitates exercises as instructed; provides appropriate guidance for participants; debriefs exercises appropriately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ncourages participant involvement/interact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tains control of course delivery; pays attention to binning inappropriate topic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sponds appropriately and accurately to participant questions; re-frames as necessary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esents materials at a level and rate that enables both participant learning and timely course complet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esents course content in a way that develops participant understanding and learning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esents course content in a way that develops and maintains participant interes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PSP0 the students learn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a defined proces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ther accurate time and defect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size measur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ccurately measure siz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simple time and size estim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se basic skills are critical to a student’s success and must be practiced to be understood and master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3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module wi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elp you to understand the objectives of PSP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elp you to understand the recommended approach to teaching PSP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ow you to participate and learn from teaching demonstrations of selected PSP0 materi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utlin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2852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0 learning objectiv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pics covered in PSP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 Presenta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roduction to the P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PSP0 tutoria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0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bjectives of PSP0 ar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monstrate the use of a defined process in writing small progr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orporate basic process measur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quire minimal changes to the engineer’s personal practic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arning Objectives for PSP0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s learn to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a defined proces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ther accurate time and defect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size measur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ccurately measure siz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simple time and size estim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equence of exercises and process levels introduces the basic measurement and estimating skills in small, progressive step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se basic skills are critical to a student’s success and must be practiced to be understood and master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17360" y="8568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10 Day / 8 Program Cours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28880" y="1709640"/>
            <a:ext cx="77133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ay 1 – PSP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urse overview lecture and introductory exercis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troduction to PSP and TSP lectur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sing PSP0 tutoria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andard deviation program assignment (program 1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ay 2 – PSP0.1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cess measurement lectur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ize counting standard report assignment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ding standard report assignmen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sing PSP0.1 tutoria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ize counter program assignment (program 2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Fundamentals/Advanced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7360" y="1631880"/>
            <a:ext cx="74134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ay 1 – PSP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urse overview lecture and introductory exercis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troduction to PSP lectur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sing PSP0 tutoria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andard deviation program assignment (PSP0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SP0.1 is not covered as a separate process level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No lecture, tutorial, or program for PSP0.1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ize measurement and size accounting are incorporated in the Planning Concepts lecture on day 2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IP form is introduced with PSP1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unting/coding standard are done on day 2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Fundamentals/Advanced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17720" y="1709640"/>
          <a:ext cx="7413480" cy="4659480"/>
        </p:xfrm>
        <a:graphic>
          <a:graphicData uri="http://schemas.openxmlformats.org/drawingml/2006/table">
            <a:tbl>
              <a:tblPr/>
              <a:tblGrid>
                <a:gridCol w="1492200"/>
                <a:gridCol w="2963880"/>
                <a:gridCol w="2957400"/>
              </a:tblGrid>
              <a:tr h="45720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Overview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SP Fundamental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Students learn to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SP Advanced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Students learn to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SP0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follow a defined proces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collect complete, consistent and accurate time, size, defect, and schedule data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define and instrument a proces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evolve a process based on analysis and PIP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9712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SP1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se a defined estimating process with limited data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nderstand their plan status and project likely completion date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se statistical methods improvement their estimates and calculate prediction interval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se data analysis techniques to examine and improve their estimating proces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SP2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build personal design and review checklist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conduct a personal review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nderstand their quality status and project likely final quality levels.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create designs that are reviewable and verifiable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verify designs using different technique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se data analysis techniques to examine and improve their overall proces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Capstone Exercise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nderstand and use personal data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work in a team environment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erformance Analysis Report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identify their strengths and weaknesse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set challenging and realistic personal improvement goal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define changes required to achieve goal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10-25T14:04:56Z</cp:lastPrinted>
  <dcterms:modified xsi:type="dcterms:W3CDTF">2018-09-06T01:08:11Z</dcterms:modified>
  <cp:revision>213</cp:revision>
  <dc:subject/>
  <dc:title>No Slide Title</dc:title>
</cp:coreProperties>
</file>